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3E98-0AC9-4408-ADD1-9D6721849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2AEA-064B-4B0D-AB37-5A889CEB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D2A5-B36C-4EE1-BFEB-D3944F90E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F7D5-0102-4FAA-A591-BFDA7B81A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1A2F-5E76-41FD-97B8-2001DCA4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42E3-5476-481F-9C58-4144F7C1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8097-8D90-4E79-99F7-E0C60A37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E5C0-0144-46AD-812E-AB7CF740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9018-63D4-49C2-BD77-B1D72180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FCC5-FD24-4097-90BC-4C229636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866E-AB0A-4E36-A5BB-78525192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0D7A-BEE5-4B58-A1A8-B2E0AFE5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2EE0-7DF7-49C9-94D2-E7778FAD2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2-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0666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e – to arrang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by systematic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1600200"/>
            <a:ext cx="761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--video stores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--clothes r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--phone books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--sports stadi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2743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deleev: 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cientist to creat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 system which organized all of the known elements into rows in order of increasing M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35812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lements with similar properties wer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n the same colu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41148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able Mendeleev created was not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omplete (gaps).  The spaces left were of elements that had not been discovered yet.  He predicted they would be in the future (he was rig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2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952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iodic ta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lassifies/organizes the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752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llows us to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ompare one element to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2057400"/>
            <a:ext cx="7772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rranged by increasing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tomic number—different than Mendel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# of protons =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tomic 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3276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wo ways to read (open to 133-13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3733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eriods – row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running left to right) =increasing atomic # from L-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90720" y="1447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olumn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running up and d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9051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lements within each/group family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ave similar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28195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e properties of elements repeat in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 predictable way when atomic numbers are used to arrange elements into groups/families = Periodic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 Group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sometimes also called famil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y the similar propertie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n groups/famil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1143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they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ll have the same outer electron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523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element on the periodic tabl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s represented by a bo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The box tells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22860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Atomic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26668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the number of Pro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30481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remember this cannot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34290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Symbol of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3886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Name of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the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42670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Atomic mass – an averag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of all the elements isotopes (different # of Neutrons compared to prot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1" descr=""/>
          <p:cNvPicPr/>
          <p:nvPr/>
        </p:nvPicPr>
        <p:blipFill>
          <a:blip r:embed="rId1"/>
          <a:stretch/>
        </p:blipFill>
        <p:spPr>
          <a:xfrm>
            <a:off x="5334120" y="2133720"/>
            <a:ext cx="29718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15:27:57Z</dcterms:created>
  <dc:creator>Farwell Area Schools</dc:creator>
  <dc:description/>
  <dc:language>en-US</dc:language>
  <cp:lastModifiedBy>Farwell Area Schools</cp:lastModifiedBy>
  <dcterms:modified xsi:type="dcterms:W3CDTF">2008-09-16T19:02:12Z</dcterms:modified>
  <cp:revision>17</cp:revision>
  <dc:subject/>
  <dc:title>Note Guide 2-1  </dc:title>
</cp:coreProperties>
</file>